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955200" cy="9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"/>
          </p:nvPr>
        </p:nvSpPr>
        <p:spPr>
          <a:xfrm>
            <a:off x="3940200" y="-360"/>
            <a:ext cx="30132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68200" y="693720"/>
            <a:ext cx="461772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2"/>
          </p:nvPr>
        </p:nvSpPr>
        <p:spPr>
          <a:xfrm>
            <a:off x="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3"/>
          </p:nvPr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C5E4228-0651-465A-A9F6-B656D493D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5947C46-9DAF-4DFE-B52A-341F78E5B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872B36C-C271-43B8-B8DB-765C939D0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12E0B2C-3C3E-459E-AED9-DAAF53C3F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436F7F7-A2F5-4C46-A6BC-2CCDF9520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DFCA827-EB9A-43B8-A556-3F800C14D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AD47627-4D64-4E01-B46D-DB204CFF5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409BAA2-2E65-4782-A78D-DF8422178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960407A-9B59-4175-8AB2-C1D10974B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21E3629-7E73-473B-AAE9-7CC40539F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DB57988-CB1F-4929-96A6-115869776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CB5EF95-59CF-4C90-B011-A86C79B20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2A59F55-9729-42B1-96B2-F9244DC41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8653963-9BA5-4446-865E-795EAF5AE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63C0028-5D7D-485B-BD90-B1CEC62DF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F3F761C-6185-469A-8493-81D8CE878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2B2DB8B-D893-493E-AD92-E35421004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9D234B9-BEF9-49EC-ABEE-C13861149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DD9E191-F884-44D8-A899-F68775981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89B31221-604F-4550-B096-7F34FF15D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787AF47-713D-4F07-94FF-E8256AE8A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74138B5-B0DA-4B04-BAD2-C53583F36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81073A0-1BFD-4C0C-AAA8-9E4500122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C618D6A-BB2B-4A05-A7F6-45F255B97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B3DA48A-1FBF-40E6-9589-7AEDFDEC6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520D2B0-A4DD-40A5-BB06-098A87D37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157AFF3-8D84-4E10-B4DE-22D36A1DB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940200" y="8777160"/>
            <a:ext cx="30132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AD0676B-C952-4C10-BF08-DC88B322F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68560" y="693720"/>
            <a:ext cx="4617720" cy="34639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94800" y="4389120"/>
            <a:ext cx="556452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69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371600" y="3828600"/>
            <a:ext cx="769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15400" y="15998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382860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315400" y="382860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73680" y="159984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75760" y="159984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371600" y="382860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973680" y="382860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75760" y="382860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3755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15400" y="1599840"/>
            <a:ext cx="3755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15400" y="1599840"/>
            <a:ext cx="3755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382860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3755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15400" y="15998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15400" y="382860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15400" y="15998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3828600"/>
            <a:ext cx="769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69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3828600"/>
            <a:ext cx="769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15400" y="15998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382860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15400" y="382860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973680" y="159984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75760" y="159984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382860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973680" y="382860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75760" y="382860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3755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315400" y="1599840"/>
            <a:ext cx="3755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83808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315400" y="1599840"/>
            <a:ext cx="3755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371600" y="382860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3755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15400" y="15998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315400" y="382860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315400" y="15998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371600" y="3828600"/>
            <a:ext cx="769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69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371600" y="3828600"/>
            <a:ext cx="769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15400" y="15998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371600" y="382860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315400" y="382860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973680" y="159984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575760" y="159984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1371600" y="382860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973680" y="382860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575760" y="382860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3755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315400" y="1599840"/>
            <a:ext cx="3755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3755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15400" y="1599840"/>
            <a:ext cx="3755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83808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15400" y="1599840"/>
            <a:ext cx="3755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371600" y="382860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3755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315400" y="15998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15400" y="382860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15400" y="15998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371600" y="3828600"/>
            <a:ext cx="769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69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371600" y="3828600"/>
            <a:ext cx="769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15400" y="15998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371600" y="382860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315400" y="382860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973680" y="159984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75760" y="159984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371600" y="382860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973680" y="382860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75760" y="3828600"/>
            <a:ext cx="24778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808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15400" y="1599840"/>
            <a:ext cx="3755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371600" y="382860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3755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15400" y="15998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15400" y="382860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15400" y="1599840"/>
            <a:ext cx="37555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1600" y="3828600"/>
            <a:ext cx="769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ppt-bkgd-1-v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315360" indent="-31536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315360" indent="-31536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ppt-bkgd-1-v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ppt-bkgd-1-v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Respond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7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90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6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00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06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13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ppt-bkgd-1-v2-titl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315360" indent="-31536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315360" indent="-31536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3"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5"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6"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76160" y="1371240"/>
            <a:ext cx="7391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Punctuation Err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67652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mily Heady, Ph.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raduate Writing Cen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otes in Quo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have a quotation within a quotation, standard American usage indicates that you double the outermost quotes (“”) and use single quotes for the inner quotations (‘’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 dad said to me, “Your long-haired, so-called ‘best friend’ was just over here asking if you could loan her some money.  I told him ‘absolutely not.’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renthe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enthetical phrases and clauses need to fit the grammar of the whole sent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brother was driving, and I was jealous.  (I was only thirteen that winter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brother was driving, and I was jealous (I was only thirteen that winter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brother was driving (I was thirteen), and I was jealou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brother was driving, and I was jealous (was I thirteen that winter?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   Avoid overusing parentheses in academic wri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76160" y="1371240"/>
            <a:ext cx="7391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metimes Rules Help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67652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pitalization, Commas, and Apostroph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pitaliz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ways capitalize the first word of a sent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pt in special cases (e.e. cummings), always capitalize proper names or official tit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rve capitalization in quotations unless you have good reason for doing otherwise (a publisher’s standards, for instance).  If you must change the case of a letter, put the letter in bracke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capitalize abstract nou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as: A Bunch of Ru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78600" indent="-678600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e a comma to join two sentences with “and,” “but,” or “or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cook, and I’ll do the dish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’ll cook and do the dish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78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e a comma after an introductory word group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cook, I’ll do the dish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re Rules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 comma between items in a se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’d rather not do the cleaning, laundry, or dish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8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 comma to set off added information only if that information is not absolutely necessa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mother, who is a college professor, hates her jo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am looking for a college professor who hates his job.  [no comma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ill More Rules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Use commas to set off transi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was cloudy this morning, but, in fact, it did not ra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was cloudy this morning; however, it did not ra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8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Use commas to make reading easi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like Joe, Catherine loves to s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err is human; to forgive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ll, things didn’t go well; what happened, happen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red Ye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Use commas to set off direct address or quot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hn, would you come over 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hn,” she shouted, “would you come over here?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use a comma every time you breath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use a comma whenever it seems like you (maybe, perhaps) shou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postroph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ostrophes create contrac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don’t like him very muc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eak ‘n’ Shake is a great restaura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ostrophes indicate possess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mother’s job is better than all my brothers’ jobs put togeth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ckens’s later works are much darker than his early nove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use an apostrophe to form a plur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ember: “it’s” = “it is,” but “its” is the possessive for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76160" y="1371240"/>
            <a:ext cx="7391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dgment Cal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67652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lons, Semicolons, Dashes, Hyphens, Ellipses, and Other Trouble Spo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me Things We All Kn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r students often punctuate poorly, randomly, or not at a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f we mark every punctuation error, we’ll be grading until Jesus comes back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’s hard to teach punctuation because students often don’t see its importan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ons versus Semicol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ns and semicolons express a relationship between two halves of a sent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ns indicate that the second half of the sentence proceeds from the first half.  Colons mean “that is” or “what I mean by that is…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micolons create a list (but no stronger relationship than that).  They mean “and” or “also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78600" indent="-678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hem when the second half of the sentence further explains the first half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hn is a very emotional person: he cries at the drop of a 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got just what I wanted for my birthday: a Denal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78600" indent="-678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hem to introduce a list that does not flow naturally with the rest of the sentenc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lassroom was a cacophony of the sounds of 2007: iPods, cell phones, and lapto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78600" indent="-678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do not need a colon if the list fits into the grammar of the sentenc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favorite foods are chicken cacciatore, boeuf en daube, and Cheesy Wester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micol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micolons connect independent clauses in a “both-and” relationshi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brother was sixteen years old that winter; I was thirte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had a Mustang; I, however, wanted a Denal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micolons separate items in a list when commas are not strong enough to do s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bought fruits such as apples, pears, and bananas; meats such as chicken and pork; and cereals such as Cheerios, Kix, Crispix, and Circus Fu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ash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shes indicate a full stop—a very strong pause in the sequence of a senten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cannot write without dashes—I sprinkle them like salt and pepper in my pro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shes set off appositives (parenthetical expression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 mother—a college professor—encouraged me to take my math classes my freshman ye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hens and dashes are not the same th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oid overusing dashes in formal writing (often colons or semicolons can be substitut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yphe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hens create compound wor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have ninety-four Penguin edi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hens make adjectives out of nou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woman was an African American.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woman was African-Americ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like literature from the nineteenth century.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 like nineteenth-century liter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use hyphens to introduce quot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llip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lipses indicate that something has been omit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ul urges, “Present your bodies . . . holy and acceptable to God” (Rom. 12:1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end a sentence with an ellipsis, you need FOUR periods instead of thre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NOT use ellipses to create dramatic effect (especially in formal writing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results of this study were surprising to the researchers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8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lipses may or may not be enclosed in brackets (depending on your citation sty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at all possible, avoid using too many ellip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unctuating for Publ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journals/presses have their own house sty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things to be aware of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ber of spaces after a peri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as before “and” in a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itish versus American punctuation/spel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erving or standardizing capit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ngth of inden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acing between paragraph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Italic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ersu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underli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aces between periods in ellip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ad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’re grading for punctuation, do NOT correct every error: it takes too long, and students will not learn as effective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 a paragraph or two, give the errors names, and then ask the students to correct the rest on their ow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on patterns of error rather than individual instances.  Try to distinguish between typos and more serious proble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ic Places Errors Occu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you come to the end of a sent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punctuation marks are doubled up, especially with quotations/ci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you need to know the rules to know how to punctu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judgment calls are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t the Ends of Sent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oubled 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not do this: I forgot to bring my I.D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le: One period at a time, pleas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necessary emo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eowulf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epic adventure story that is as fresh today as ever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is essay, I focus on Grendel’s apparent lack of motivation for his action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le: If it’s a statement, a period will suffi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676160" y="1371240"/>
            <a:ext cx="7391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ubled Punctu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67652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otations and Parenthe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itial Quotation Mar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e a quotation with an initial phrase and a comma or an initial clause and a col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cording to Jones, “Blah blah blah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hortest verse in the Bible makes a powerful emotional statement: “Jesus wept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can also introduce a quotation by fitting it grammatically into the sentence (in which case you omit the comma or colon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know from John 11:35 that “Jesus wept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ds of Quot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sentence continues after the quotation, you’ll usually need a comma AFTER your quotation but BEFORE your final quotation mar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wish this workshop were over,” John sai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me,” Mary replied, “I’ve got to go to the dentist this afternoon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quotation ends in an exclamation point or question mark, omit the comm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hate going to the dentist!” John bellow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are you talking so loudly?” asked Mar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ds of Sentences Con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sentence ends with the quotation (and if there is no parenthetical citation), put your final mark of punctuation INSIDE the quotation mark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at dog is bigger than a Denali!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don’t think so; Denalis are quite large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r sentence ends with a footnote, put the superscript number AFTER your final mark of punctu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cording to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ar and Driv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he Denali is “among the most agile of full-sized sport utility vehicles.”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8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otations and Parenthetical Cit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-68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sentence ends with a parenthetical citation, omit the punctuation at the end of the quotation (unless it is a ? or a !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cording to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ar and Driv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he Denali is “among the most agile of full-sized sport utility vehicles” (Csere 20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mith urges clients to ask, “What are you doing with your life?” (qtd. in Jones 15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85800" indent="-68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ember that the end-of-sentence punctuation must fit with the WHOLE sentence—not just the quot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Csaba Csere says that the Denali is “among the most agile of full-sized sport utility vehicles” (20), then why shouldn’t I get one for my sixteenth birthday, Dad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1T16:22:11Z</dcterms:created>
  <dc:creator>Administrator</dc:creator>
  <dc:description/>
  <dc:language>en-US</dc:language>
  <cp:lastModifiedBy>Nadia Williams</cp:lastModifiedBy>
  <dcterms:modified xsi:type="dcterms:W3CDTF">2014-03-07T17:21:12Z</dcterms:modified>
  <cp:revision>10</cp:revision>
  <dc:subject/>
  <dc:title>Common Punctuation Erro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owTimer">
    <vt:bool>1</vt:bool>
  </property>
</Properties>
</file>